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04B-987A-43E7-8E3F-D06E5707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A21-DCFD-4A32-80BD-E1DE02DA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A29-5B2C-48DD-927A-7246B921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839B-F2E2-4FD9-85F8-F9E07F36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C4E-867A-4887-AA1F-18A0194A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40D-31D5-469E-AABD-4749944C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3758-2339-4D03-81D2-5780D99B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EC3-BE0D-433F-B481-936440BF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7C8-99A6-4883-9D1A-23B50203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9B42-307A-48F3-8FBE-57854A28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2A5-9761-458E-A6C2-3746FD3A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4D6-FD85-4B49-B840-51F86D60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8436-47DF-4F22-B2CA-0F9326F28B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Attitude, mood and t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181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ay of thinking or feeling; opinions, 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ner of expression, e.g. angry, cool, gleeful, light-hearted, s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Walker, Kimberly</cp:lastModifiedBy>
  <dcterms:modified xsi:type="dcterms:W3CDTF">2014-12-17T14:36:19Z</dcterms:modified>
  <cp:revision>67</cp:revision>
  <dc:subject/>
  <dc:title>La Belle Dame Sans Merci</dc:title>
</cp:coreProperties>
</file>